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8E92-637A-4B63-91AD-B353B4CA1CE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C2BE-9C80-4713-A570-697C04629C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722A-46F5-45C5-86AE-58A20C6E72A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5CE7-A8B3-481E-B2A8-C42291A56E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F81F-49C0-4BB4-B04C-406AC92B721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7E5B-1402-4C27-8FF3-75AEB174E9A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BE31-BFE3-4AF1-A9C2-25172E939C1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A1D7-74FB-41ED-AD1D-90ED0EB261F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43A1-5828-4F01-BBF7-1AC32DB1E49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C6DF-4B49-491C-B4C1-450D7ABDD2E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F272-318D-43AE-9ABB-1F6A221027E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A731-9914-44D0-A0A3-2386E247FE1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152-7519-4F82-B36B-EEF2E9C8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191-E049-4A5F-856F-A26B6A0F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ADF6-8C0F-4EB7-9A70-D03FECB4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4A3B-0494-4CF1-9805-B99CD174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B602-0478-42C7-AD74-07C5A6A6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00E4-6689-4739-8244-100F55DE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C6B-C94C-46B7-A70C-ADB17875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A04B-8BED-46DD-92B9-E1A7498C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0B4F-1552-4D17-85F7-1AC5197B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5FC0-F389-4634-9EA0-E0F4BB69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1F72-7B2A-4CA0-89E7-15EA65CE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6F0B-C79E-4B62-A5BD-E415C56E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A096-9A43-4E65-A5E5-F0EC18AF0A3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49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edidas Pro-Exportadoras para hacer frente a la crisis exter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mpliación y fortalecimiento de las Oficinas Comerciales en el exterior, como herramienta de apoyo promocional y de inteligencia comercial (incremento de presupuest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isiones comerciales a nuevos mercado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alizar eventos en embajadas, similar a Perú Mucho Gusto, presentando imagen paí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Lanzar nuevas Representaciones en Destino de PROMPERU (esquema de Antenas comerciales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Elaborar información y material de promoción comercial (catálogos, CDs, Brochures, muestras, etc) para su envío al exteri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Verdana"/>
              </a:rPr>
              <a:t>Desarrollo de Mer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103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rte desaceleración de la economía, de un crecimiento promedio de 5% entre el 2005 y 2008, a un 0.9% estimado en el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Disminución del intercambio comercial y un mayor riesgo de proteccionismo en 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Reducción del flujo de capitales a países en desarrollo, conllevando a menores inver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Quiebra de importantes bancos y aseguradoras, así como fuertes caídas en la bolsa de 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Plan Anti-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gobierno a través del MINCETUR, en coordinación con otras instituciones públicas, viene desarrollando medidas para permitir que el sector exportador mantenga su dinamismo a pesar de la crisis económica inter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s medidas se encuentran centradas en diversos aspectos tales como  la Facilitación de Comerco y el Desarrollo de nuevos merc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ificación del Programa SEPYMEX - Seguro de Crédito a la Export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liminación del límite máximo de exportaciones por deu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mpliación de la cobertura máxima por deudor hasta por USD 3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ducción del límite mínimo de la Línea Anual de Cobertura contratada con los bancos hasta por USD 4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Las modificaciones ya han sido implementadas (RM N° 048-2009-EF/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eación del Fondo de Garantía Empresarial (FOG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ndo por S/.300 millones para garantizar el 50% de financiamientos de Capital de Trabajo y Activo F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uede ser empleado no sólo para operaciones de comercio exterior sino para operaciones lo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a operativa es similar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 presentó Decreto de Urgencia, pendiente de aprobación por parte del ME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guro de Crédito Post Emba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rograma complementario al SEPYMEX ya que coberturaría los créditos post embarque, lo cual ha sido solicitado por los bancos para que puedan ofrecer un mayor número de créditos a la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oberturaría riesgo comercial y político ( facilitaría exportaciones a países como Venezuela y del medio ori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endría condiciones similares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sarrollo de una Rueda de Bolsa para la Negociación de Futuros de Moneda Extranj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ermitirá acceder a instrumentos que mitigan el riesgo de las variaciones en el Tipo de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Se negociarían Futuros de Tipo de Cambio, los cuales son similares a los Forward pero son productos estandar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plementación del carnet 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ocumento internacional que facilita los trámites de admisión temporal (ideal para empresas que participan en ferias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ás de 60 países se encuentran afiliados a este siste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: 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ropuesta ha sido presentada al MEF para la emisión de un Decreto Suprem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ción de la Ventanilla Única de Comercio Exteri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lataforma informática que servirá para la interconexión entre 8 instituciones encargadas de la emisión de permisos para la exportación / importación de mercancías y los exportadores e importador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ctualmente se encuentra en la etapa de construcción de la plataforma tecnológica del componente de mercancías restringidas y se está diseñando el modelo general del componente portua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20:40:53Z</dcterms:created>
  <dc:creator>pmonzon</dc:creator>
  <dc:description/>
  <dc:language>en-US</dc:language>
  <cp:lastModifiedBy>METALHEAD</cp:lastModifiedBy>
  <dcterms:modified xsi:type="dcterms:W3CDTF">2009-01-27T00:04:24Z</dcterms:modified>
  <cp:revision>282</cp:revision>
  <dc:subject/>
  <dc:title>Facilitación &amp; Logística</dc:title>
</cp:coreProperties>
</file>